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E052-314B-4E14-8EE9-DB2CF5881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581A-ABA0-491F-B941-D0D09634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49EC-E7A2-435C-868C-B1B1B1B75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6534-48A0-4258-A43E-119E0B11A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81C9-279C-41D2-80AC-0686BCE64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5E7D-C515-4A1A-B106-1C6249EB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A1437-D8CE-4940-92B6-E62CBEE2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451E-0B65-4222-8FD2-6A1CE794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817C-C4C7-435B-B2D1-01921B2A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A93F-1BB8-4CF4-8F54-6A8E1790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6556-CD60-4D3B-9573-209DC97D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AB29-DCF8-4698-AF57-D8A9CC19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970C-F8FA-4A58-BB14-3D15FF9C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8ED4-C9FC-4D3E-AA8D-5F98DE2A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7BB2-3393-4639-BBD4-8F3AEE10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2A5C-5C54-4161-927F-BBA6B151E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90CE-809A-4AC3-AF98-120DA8AEA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6EB7-FA10-4A20-93B3-8F218ABB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CDC6-CFCA-489D-B10E-F33800BD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652C-74B2-4681-8678-5C708588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ABD1-46CA-45AF-8C6B-13D15EE5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E889-F3C3-4630-951B-F72FC1F7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39FE-AA11-4504-BA48-BC12B85E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0CDB-5998-4ECF-96EF-0C1A0C2E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977F-7BA9-40A9-9904-7DA0ED6A59E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FF93-4DC2-456F-8C37-7671307F893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Me llamo ___________ Clase 702</a:t>
            </a:r>
            <a:br>
              <a:rPr sz="4000"/>
            </a:b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La fecha es el primero de marzo del 2016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8240" y="156492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70000"/>
                </a:solidFill>
                <a:latin typeface="Verdana"/>
              </a:rPr>
              <a:t>Proposito # 51: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¿Prefieres jugar o estudia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030a0"/>
                </a:solidFill>
                <a:latin typeface="Verdana"/>
              </a:rPr>
              <a:t>L.O.- to review stem-changing verb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70000"/>
                </a:solidFill>
                <a:latin typeface="Verdana"/>
              </a:rPr>
              <a:t>Actividad Inicial: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py and add letters to form complete work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s clases emp____z_____ a las och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sotros emp____z_____ a trabaja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 qu____r____ sacar notas bue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dos nosotros qu____r_____ notas bue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los pref____r____ ser espectador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sotros pref____r____ ser jugador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3657600" y="3532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4800600" y="35020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76312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Garamond"/>
              </a:rPr>
              <a:t>Repaso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Garamond"/>
              </a:rPr>
              <a:t>Stem-changing/ Boot Verbs E</a:t>
            </a: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f0000"/>
                </a:solidFill>
                <a:latin typeface="Garamond"/>
              </a:rPr>
              <a:t>IE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88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forms of the verb change from “E” to “I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xcep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‘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osotros’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‘vosotros’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“E” closest to the ending ‘-AR, -ER, -IR’ takes the “IE” chang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eza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feri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 Empiez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Tú Prefieres      Él Quie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Oval 3"/>
          <p:cNvSpPr/>
          <p:nvPr/>
        </p:nvSpPr>
        <p:spPr>
          <a:xfrm>
            <a:off x="2514600" y="3657600"/>
            <a:ext cx="457200" cy="457200"/>
          </a:xfrm>
          <a:prstGeom prst="ellipse">
            <a:avLst/>
          </a:prstGeom>
          <a:noFill/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97" name="Curved Connector 5"/>
          <p:cNvCxnSpPr/>
          <p:nvPr/>
        </p:nvCxnSpPr>
        <p:spPr>
          <a:xfrm rot="5400000">
            <a:off x="2479320" y="3463920"/>
            <a:ext cx="70200" cy="457920"/>
          </a:xfrm>
          <a:prstGeom prst="curvedConnector5">
            <a:avLst>
              <a:gd name="adj1" fmla="val -452061"/>
              <a:gd name="adj2" fmla="val 52635"/>
              <a:gd name="adj3" fmla="val -452061"/>
            </a:avLst>
          </a:prstGeom>
          <a:ln w="28440">
            <a:solidFill>
              <a:srgbClr val="00b050"/>
            </a:solidFill>
            <a:miter/>
            <a:headEnd len="med" type="arrow" w="med"/>
            <a:tailEnd len="med" type="arrow" w="med"/>
          </a:ln>
        </p:spPr>
      </p:cxnSp>
      <p:sp>
        <p:nvSpPr>
          <p:cNvPr id="98" name="Straight Connector 11"/>
          <p:cNvSpPr/>
          <p:nvPr/>
        </p:nvSpPr>
        <p:spPr>
          <a:xfrm>
            <a:off x="2209680" y="3962520"/>
            <a:ext cx="152640" cy="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99" name="Straight Arrow Connector 13"/>
          <p:cNvCxnSpPr/>
          <p:nvPr/>
        </p:nvCxnSpPr>
        <p:spPr>
          <a:xfrm flipH="1">
            <a:off x="2285280" y="3962520"/>
            <a:ext cx="1080" cy="76248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00" name="Straight Connector 16"/>
          <p:cNvSpPr/>
          <p:nvPr/>
        </p:nvSpPr>
        <p:spPr>
          <a:xfrm>
            <a:off x="2209680" y="4952880"/>
            <a:ext cx="304920" cy="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Oval 8"/>
          <p:cNvSpPr/>
          <p:nvPr/>
        </p:nvSpPr>
        <p:spPr>
          <a:xfrm>
            <a:off x="5105520" y="3657600"/>
            <a:ext cx="457200" cy="457200"/>
          </a:xfrm>
          <a:prstGeom prst="ellipse">
            <a:avLst/>
          </a:prstGeom>
          <a:noFill/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02" name="Curved Connector 9"/>
          <p:cNvCxnSpPr/>
          <p:nvPr/>
        </p:nvCxnSpPr>
        <p:spPr>
          <a:xfrm rot="5400000">
            <a:off x="5146200" y="3463920"/>
            <a:ext cx="70200" cy="457920"/>
          </a:xfrm>
          <a:prstGeom prst="curvedConnector5">
            <a:avLst>
              <a:gd name="adj1" fmla="val -472164"/>
              <a:gd name="adj2" fmla="val 52635"/>
              <a:gd name="adj3" fmla="val -472164"/>
            </a:avLst>
          </a:prstGeom>
          <a:ln w="28440">
            <a:solidFill>
              <a:srgbClr val="00b05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Straight Connector 10"/>
          <p:cNvSpPr/>
          <p:nvPr/>
        </p:nvSpPr>
        <p:spPr>
          <a:xfrm>
            <a:off x="4876920" y="4003560"/>
            <a:ext cx="152280" cy="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04" name="Straight Arrow Connector 12"/>
          <p:cNvCxnSpPr/>
          <p:nvPr/>
        </p:nvCxnSpPr>
        <p:spPr>
          <a:xfrm flipH="1">
            <a:off x="4952160" y="3962160"/>
            <a:ext cx="1080" cy="68652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05" name="Straight Connector 14"/>
          <p:cNvSpPr/>
          <p:nvPr/>
        </p:nvSpPr>
        <p:spPr>
          <a:xfrm>
            <a:off x="4876920" y="4952880"/>
            <a:ext cx="304560" cy="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Oval 15"/>
          <p:cNvSpPr/>
          <p:nvPr/>
        </p:nvSpPr>
        <p:spPr>
          <a:xfrm>
            <a:off x="7710480" y="3616200"/>
            <a:ext cx="457200" cy="457200"/>
          </a:xfrm>
          <a:prstGeom prst="ellipse">
            <a:avLst/>
          </a:prstGeom>
          <a:noFill/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07" name="Curved Connector 17"/>
          <p:cNvCxnSpPr/>
          <p:nvPr/>
        </p:nvCxnSpPr>
        <p:spPr>
          <a:xfrm rot="5400000">
            <a:off x="7654680" y="3387600"/>
            <a:ext cx="70200" cy="457920"/>
          </a:xfrm>
          <a:prstGeom prst="curvedConnector5">
            <a:avLst>
              <a:gd name="adj1" fmla="val -331443"/>
              <a:gd name="adj2" fmla="val 52635"/>
              <a:gd name="adj3" fmla="val -331443"/>
            </a:avLst>
          </a:prstGeom>
          <a:ln w="28440">
            <a:solidFill>
              <a:srgbClr val="00b050"/>
            </a:solidFill>
            <a:miter/>
            <a:headEnd len="med" type="arrow" w="med"/>
            <a:tailEnd len="med" type="arrow" w="med"/>
          </a:ln>
        </p:spPr>
      </p:cxnSp>
      <p:sp>
        <p:nvSpPr>
          <p:cNvPr id="108" name="Straight Connector 18"/>
          <p:cNvSpPr/>
          <p:nvPr/>
        </p:nvSpPr>
        <p:spPr>
          <a:xfrm>
            <a:off x="7391520" y="3962520"/>
            <a:ext cx="152280" cy="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09" name="Straight Arrow Connector 19"/>
          <p:cNvCxnSpPr/>
          <p:nvPr/>
        </p:nvCxnSpPr>
        <p:spPr>
          <a:xfrm>
            <a:off x="7467120" y="3962160"/>
            <a:ext cx="1080" cy="61020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10" name="Straight Connector 20"/>
          <p:cNvSpPr/>
          <p:nvPr/>
        </p:nvSpPr>
        <p:spPr>
          <a:xfrm>
            <a:off x="7461360" y="4952880"/>
            <a:ext cx="304560" cy="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Practica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286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70000"/>
                </a:solidFill>
                <a:latin typeface="Verdana"/>
              </a:rPr>
              <a:t>I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write the following sentence in the singula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remos jugar beisbo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ferimos jugar en el parq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ezamos a jugar a las dos y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s hermanos quieren jugar futbo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los prefieren jugar en el campo de la escuel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iezan a jugar al medio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04920" y="151920"/>
            <a:ext cx="853416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70000"/>
                </a:solidFill>
                <a:latin typeface="Verdana"/>
              </a:rPr>
              <a:t>II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m sentences by combining the words in each of the following colum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_________________________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_________________________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_________________________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_________________________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_________________________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_________________________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219320"/>
          <a:ext cx="8229600" cy="192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921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s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l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r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fer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mpezar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ner q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ugar al futb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n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lver al cam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t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nzar el bal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70000"/>
                </a:solidFill>
                <a:latin typeface="Verdana"/>
              </a:rPr>
              <a:t>III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PIA y respond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¿Quieren ustedes ir al partido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¿Quieres jugar con el equipo o no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¿Cuando empiezan ustedes? ¿A las ocho o a las diez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¿Prefieres jugar o estudia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area # 51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Y f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Quiz 3: Capitulo 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OMORROW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em-changing / Boot verbs (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00:31:41Z</dcterms:created>
  <dc:creator>Helen Zumaeta</dc:creator>
  <dc:description/>
  <dc:language>en-US</dc:language>
  <cp:lastModifiedBy>Helen Zumaeta</cp:lastModifiedBy>
  <cp:lastPrinted>2016-02-26T18:12:38Z</cp:lastPrinted>
  <dcterms:modified xsi:type="dcterms:W3CDTF">2016-03-01T21:28:27Z</dcterms:modified>
  <cp:revision>61</cp:revision>
  <dc:subject/>
  <dc:title>Me llamo __________   Clase 7IM La fecha es el 2 de diciembre del 2010</dc:title>
</cp:coreProperties>
</file>